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1DD-0DFD-4C04-BA1E-68ABBA2D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63A-B026-4875-98AB-909D8B8F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76A-20D3-4553-A514-4F4B4EDB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AB3-8ED8-4CB9-901D-D27A54A4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D83-8C0E-4603-8FF8-046825EA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2B9A-2C7B-4438-B411-6AE5BF9A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2A19-AAAA-4F4B-AF23-2FA799D1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F88E-4E4F-4054-BF93-3A5075B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B11-1CFF-45A6-BDD5-00761636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E8FC-A94A-471C-9E40-571C3262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7920-C065-4485-A99C-03B9F72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727-7B28-477E-A83D-AC40934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AC8-7A56-41D4-8029-1288DB4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289C-5450-4CFD-BDEB-EA4F122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75AC-73FA-40FB-8EDA-CE980A4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52A9-C479-42BC-9294-0BFA8D69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05D-3F5C-4D04-A910-3AE1A81B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8BA-6C15-401F-9553-DF8B86CC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EAD-8855-4CCF-9988-3CABA311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D78-81F7-4538-B5B1-0AD1F5F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B42-B1A2-49B6-A66F-C39B276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711-A9DB-4584-8187-9E6A263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C51-12B6-4F04-B563-E661267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978-01AC-4C39-AA44-A1D7A3E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F28-42F4-4122-BDAA-7BB6507A6D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1D8-2993-46B0-A9B6-180808553B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ivics Learning Target Re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Govern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archy – King/Queen + heredit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itutional monarchy – King/Queen + elected offici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cy – elected offici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ligarchy – group r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talitarian dictatorship – total control over everyt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talism – free enterprise, private companies and supply and demand control the 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ism – goal of equality, government controls most things, high taxes and social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ary system – single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eral system – shared power between state and federal gover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oting / Ele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 of voting process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Regi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Go to polling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ID ver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. V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election – every four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election – selects candidates for general e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election – emergency e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-off election – prior election ended in a 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money – unregulated donations to a candidate (SUPERPA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umbents – current office ho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ituent – resident of distri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eral views tend to be; pro-immigration, pro-choice, government support for social pro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ervative views tend to be; less government involvement in social programs, tough on crime, less separation of church and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ic Party – tend to represent more of the liberal vie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ublican Party – tend to represent more of the conservative vie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itical Socialization – how you get your political beliefs (parents, school, friends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53:06Z</dcterms:created>
  <dc:creator>School District U46</dc:creator>
  <dc:description/>
  <dc:language>en-US</dc:language>
  <cp:lastModifiedBy>School District U46</cp:lastModifiedBy>
  <dcterms:modified xsi:type="dcterms:W3CDTF">2013-04-02T13:36:24Z</dcterms:modified>
  <cp:revision>4</cp:revision>
  <dc:subject/>
  <dc:title>Civics Learning Target Review</dc:title>
</cp:coreProperties>
</file>